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60000" y="717480"/>
            <a:ext cx="6281640" cy="471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for Windows T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700200" y="5756400"/>
            <a:ext cx="5610240" cy="2862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2"/>
          </p:nvPr>
        </p:nvSpPr>
        <p:spPr>
          <a:xfrm>
            <a:off x="2293920" y="8957880"/>
            <a:ext cx="2338560" cy="338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005 LEN 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SUL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3"/>
          </p:nvPr>
        </p:nvSpPr>
        <p:spPr>
          <a:xfrm>
            <a:off x="4780080" y="8986680"/>
            <a:ext cx="915840" cy="309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0E2DE-83A4-4CD1-BED6-197021CAA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8696160"/>
            <a:ext cx="669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06280" y="8807400"/>
            <a:ext cx="1217880" cy="363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71360" y="5581800"/>
            <a:ext cx="66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884920" y="8788320"/>
            <a:ext cx="809640" cy="4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60360" y="717480"/>
            <a:ext cx="6281640" cy="4711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0200" y="5756400"/>
            <a:ext cx="5610240" cy="2862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ching IF…END-IF, etc. 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-wra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s at defined ruler position, will add end continuation automatically fo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line highlighting &amp; Breakpoi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highlighting like in previous debug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breakpoints without activating the debugger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 all fou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tool to indicate all occur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jumping between sections of code that have been bookma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ure if this is a good thing or not, from the documentation it sounds like once line(s) are protected they can’t be modified by any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60360" y="717480"/>
            <a:ext cx="6281640" cy="4711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5756400"/>
            <a:ext cx="5610240" cy="2862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w features come new bug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60360" y="717480"/>
            <a:ext cx="6281640" cy="47116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86920" y="5756400"/>
            <a:ext cx="6350040" cy="2862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frame compatible chang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ugi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MAIN-like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trieve SYSTEM &amp; profile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source with read-only 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uralX Class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umeration – itterate through collection ob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tilit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ss to plugin function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simplify working with other applications using the automation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s ROT = Running Object 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180800"/>
            <a:ext cx="7010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1362240" y="190080"/>
            <a:ext cx="18720" cy="67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2000" y="42876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49360" y="42876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36720" y="42876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14480" y="6303960"/>
            <a:ext cx="1438200" cy="4111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202280" y="6499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D9AC-89DC-4891-87DA-E0BC482B2C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314440" y="6496200"/>
            <a:ext cx="1724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ural Conference 2006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257800" y="6486480"/>
            <a:ext cx="1438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ural 6 TnT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7893000" y="6113520"/>
            <a:ext cx="110340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57800" y="6486480"/>
            <a:ext cx="1438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ural 6 TnT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480" y="6303960"/>
            <a:ext cx="1438200" cy="411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202280" y="6499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CD6A-E26B-4DA4-8E73-62FFE163E0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893000" y="6113520"/>
            <a:ext cx="1103400" cy="596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14440" y="6496200"/>
            <a:ext cx="1724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ural Conference 2006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6.2 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180800"/>
            <a:ext cx="705816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 Edi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matching / current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-wrap / break at 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ine highl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ight all found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ma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6.2 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360" y="2031840"/>
            <a:ext cx="11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block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0360" y="2489040"/>
            <a:ext cx="11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l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1480" y="517032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poi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1480" y="294624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mark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43120" y="383220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lin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57320" y="895320"/>
            <a:ext cx="5483160" cy="5313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1480" y="454176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tex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6720" y="3454560"/>
            <a:ext cx="134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 delimiter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04000" y="1930320"/>
            <a:ext cx="69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36640" y="2184480"/>
            <a:ext cx="540000" cy="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06400" y="2631960"/>
            <a:ext cx="78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17560" y="3089160"/>
            <a:ext cx="56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17560" y="3637080"/>
            <a:ext cx="660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7560" y="3637080"/>
            <a:ext cx="639720" cy="214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85880" y="3983040"/>
            <a:ext cx="701640" cy="109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685880" y="3514680"/>
            <a:ext cx="71136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85880" y="4694400"/>
            <a:ext cx="1666800" cy="274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706400" y="3983040"/>
            <a:ext cx="1320840" cy="711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57440" y="5303880"/>
            <a:ext cx="600120" cy="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6.2 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1180800"/>
            <a:ext cx="705816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area edi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access rather than using input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pse / Expand “group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otice a quirk with lines when scrolling, it’s either due to using the Windows “transition effect” (KB #542259) or will be fixed in v6.2.3 (KB #542898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6.2 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180800"/>
            <a:ext cx="701064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ed Debug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to key def’ns (I.E. step into is now F11 rather than F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items removed but still available I.E. Run to Cursor = ctrl-F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it seems better, excep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good if using PC NSC (v6.2.2 PL 00 &amp; 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6.2 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180800"/>
            <a:ext cx="7010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lerator keys” now called “Shortcut Keys” in the document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matic connection of remote environments available based on last stat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ML Toolkit in library SYSXT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ons for work f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, delete on 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V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6.2 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180800"/>
            <a:ext cx="7010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 Globals” statement not limited to report mode any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ous changes for compatibility with mainfr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nice new options for plug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AG.NaturalX cla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llection objects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plugin power to Natural pg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ccess to Windows R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180800"/>
            <a:ext cx="7010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s / Additional 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atural 6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ips ‘n’ Techniqu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00560" y="5457960"/>
            <a:ext cx="369576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Conference 2006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95440" y="4384800"/>
            <a:ext cx="42480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lph Zbrog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Zbrog@ZZUtils.com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d Scott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Scott@FCL.c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4:59:58Z</dcterms:created>
  <dc:creator>Ralph Zbrog &amp; Chad Scott</dc:creator>
  <dc:description/>
  <dc:language>en-US</dc:language>
  <cp:lastModifiedBy>Laptop</cp:lastModifiedBy>
  <dcterms:modified xsi:type="dcterms:W3CDTF">2006-10-13T18:25:35Z</dcterms:modified>
  <cp:revision>708</cp:revision>
  <dc:subject>Natural 6 TnT</dc:subject>
  <dc:title>Natural Conference 2006</dc:title>
</cp:coreProperties>
</file>